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D62-5F68-4543-83E0-AE0898FB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8D0-9EEA-422E-BAEC-1B73F9C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547-A248-4367-86BA-5AFBD95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6AA-2AA5-45AD-8035-F0125554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4FB0-17B3-4A33-A1C1-3AF3E635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392F-7893-40EE-821A-CF8C5922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965C-6BE9-48E2-8920-FCD561F5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6C4C-E1D4-4BD9-AC05-5296200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D18-A055-4F36-9353-C03054DC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64C3-9489-47A2-B50B-D3589A42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F50-085C-4100-8CB2-60BEE30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490-FD35-49CD-A04C-DC7D306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2D38-0C7A-45BD-966E-00204AB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EF9-EDA8-42C9-8CF9-706ED7C1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81D5-1250-4E95-82C9-3F7E0CBE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AF51-7367-4B98-8C62-EDCE9CD9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2F02-D746-41A5-8365-B1265807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0B8-A148-4C5A-B0F5-8C8D671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F51-1128-434C-B99A-34AF6082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265-9B8F-49CE-B31A-78FBEF5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6E2-DC82-49DB-ABB2-409B578D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364-2B3B-4168-9132-72972648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9E6-7112-400F-B207-36F3CE1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E2D-9CA1-4CC9-9ACF-8508CC3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7AAE-310F-4972-A840-19BEE470A7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91EF-78D4-4718-881E-FF246D3518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03480" y="2286000"/>
            <a:ext cx="35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Times New Roman"/>
              </a:rPr>
              <a:t>Cause and Eff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276720"/>
            <a:ext cx="60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Children picked up trash on the playgroun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2440" y="4267080"/>
            <a:ext cx="44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hy do you think this happened?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4880" y="51814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d you have to rely on your knowledge of children, school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nd playgrounds?  How did this help you to figure out wh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as going on in the s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581200"/>
            <a:ext cx="89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 children picked up trash on the playgr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ank you for doing what I asked,” their teacher sai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2200" y="4460760"/>
            <a:ext cx="81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What happened?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ow do you know who did i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t is always important to understand exactly WHY someth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appens in a story?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428920"/>
            <a:ext cx="890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 children picked up trash on the playgr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ank you for doing what I asked,” their teacher sai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320" y="415620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Which part of this is the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cause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, the REASON someth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appene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9000" y="54514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Which part of this sentence is the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effec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?  The part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entence that tells us what HAPPENE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2228760"/>
            <a:ext cx="908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auses and Effects from 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ales of a Fourth Gr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Nothing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Super Fudge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7800" y="3927600"/>
            <a:ext cx="78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Cause                                               Effect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udge gets new sho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ter gets a new lock on his do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he family moves to N.J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ter has a class pro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ter names his dog Turt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343400"/>
            <a:ext cx="0" cy="2286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133720"/>
            <a:ext cx="8518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Ending No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Usually it is easy to spot the effect, or wh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happened in a story.  When trying to figu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out what the cause of a specific effect in 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story, ALWAYS ASK THE WHY QUES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280" y="5603760"/>
            <a:ext cx="84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ou are now a certified Cause and Effect expert.  Now it’s y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job to spot causes and effects in your reading exercises!!!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52:29Z</dcterms:created>
  <dc:creator>User</dc:creator>
  <dc:description/>
  <dc:language>en-US</dc:language>
  <cp:lastModifiedBy>Rutherford County Schools</cp:lastModifiedBy>
  <dcterms:modified xsi:type="dcterms:W3CDTF">2007-04-21T15:17:32Z</dcterms:modified>
  <cp:revision>1</cp:revision>
  <dc:subject/>
  <dc:title>No Slide Title</dc:title>
</cp:coreProperties>
</file>